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applause.wav" ContentType="audio/x-wav"/>
  <Override PartName="/ppt/media/hilari2.wav" ContentType="audio/x-wav"/>
  <Override PartName="/ppt/media/cowbell.wav" ContentType="audio/x-wav"/>
  <Override PartName="/ppt/media/kiss2.wav" ContentType="audio/x-wav"/>
  <Override PartName="/ppt/media/cartoon3.wav" ContentType="audio/x-wav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D3A56-3EC0-40DD-9992-A5FE25F9D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2035-E83E-4F01-870D-7A633BF05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B5E4D-7DB8-459E-9E38-144FC7BA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FB78B-3B80-4ABC-97C8-F4726E415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09E3C-4B74-4C19-878C-7273848D9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5E13-AF61-4AC9-89B1-808E82FE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E89C7-D799-473C-863F-3767BC30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5B14-333B-4B4F-BC4A-787101F6B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643EB-3205-473A-85AD-D608F9356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C84DF-FA10-43A4-ABB8-7783CF705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A0E70-9769-4336-8ED4-2450A0BE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41D44-66F7-45C3-B68D-0A9F0FB3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21339-8012-4A50-A320-B972536C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21F9-4ACB-4FE2-815B-D70936327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D3AC-DBA3-4959-A04A-ACD28639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10396-8442-42EA-B522-AB4F2403D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D99B-16C0-4520-B8A5-DABACBEAC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BD5AE-E917-413C-84DA-29599088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1F547-64A0-4534-808E-764DF44A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A95C2-429F-4B65-80A8-4BFB488C3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9A27C-A782-451E-BA1E-A6F02FA5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0DBE-73FD-4564-BEAB-15273209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6D1AD-302A-4B9E-9657-DA374227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8C93A-46E0-43B7-A68D-B2D0E681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142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32e3d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b384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b384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DD5B7-A69F-4C1B-9B0A-E38702F1242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e87a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445876"/>
                </a:gs>
                <a:gs pos="100000">
                  <a:srgbClr val="4f627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6e87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53142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232e3d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2c3a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b384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50000">
                  <a:srgbClr val="2b384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2c3a4e"/>
                </a:gs>
                <a:gs pos="100000">
                  <a:srgbClr val="6e87a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e87ac"/>
                </a:gs>
                <a:gs pos="100000">
                  <a:srgbClr val="2c3a4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>
                <a:gd name="textAreaLeft" fmla="*/ 0 w 9144000"/>
                <a:gd name="textAreaRight" fmla="*/ 9144360 w 9144000"/>
                <a:gd name="textAreaTop" fmla="*/ 0 h 706320"/>
                <a:gd name="textAreaBottom" fmla="*/ 706320 h 706320"/>
              </a:gdLst>
              <a:ahLst/>
              <a:rect l="textAreaLeft" t="textAreaTop" r="textAreaRight" b="textAreaBottom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44587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>
                <a:gd name="textAreaLeft" fmla="*/ 0 w 9159840"/>
                <a:gd name="textAreaRight" fmla="*/ 9160200 w 9159840"/>
                <a:gd name="textAreaTop" fmla="*/ 0 h 276480"/>
                <a:gd name="textAreaBottom" fmla="*/ 276840 h 276480"/>
              </a:gdLst>
              <a:ahLst/>
              <a:rect l="textAreaLeft" t="textAreaTop" r="textAreaRight" b="textAreaBottom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445876"/>
                </a:gs>
                <a:gs pos="50000">
                  <a:srgbClr val="4a5d7a"/>
                </a:gs>
                <a:gs pos="100000">
                  <a:srgbClr val="4458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6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CED9-73B5-415E-841C-DE26E9B8A04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owbell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kiss2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ilari2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rtoon3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3160" y="990360"/>
            <a:ext cx="7924680" cy="2438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Guess the Covered Word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ed b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oanne Whitl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500" spc="-1" strike="noStrike">
                <a:solidFill>
                  <a:srgbClr val="006666"/>
                </a:solidFill>
                <a:latin typeface="Arial"/>
              </a:rPr>
              <a:t>GREAT JOB!</a:t>
            </a:r>
            <a:endParaRPr b="0" lang="en-US" sz="10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4" descr="1st_place_medal_md_clr"/>
          <p:cNvPicPr/>
          <p:nvPr/>
        </p:nvPicPr>
        <p:blipFill>
          <a:blip r:embed="rId1"/>
          <a:stretch/>
        </p:blipFill>
        <p:spPr>
          <a:xfrm>
            <a:off x="3809880" y="3352680"/>
            <a:ext cx="166716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600" spc="-1" strike="noStrike">
                <a:solidFill>
                  <a:srgbClr val="ffffff"/>
                </a:solidFill>
                <a:latin typeface="Arial"/>
              </a:rPr>
              <a:t>Say It!</a:t>
            </a:r>
            <a:endParaRPr b="0" lang="en-US" sz="7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REQUIRE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LOYAL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"/>
          <p:cNvSpPr/>
          <p:nvPr/>
        </p:nvSpPr>
        <p:spPr>
          <a:xfrm>
            <a:off x="990720" y="182880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914400" y="2819520"/>
            <a:ext cx="2057400" cy="609480"/>
          </a:xfrm>
          <a:prstGeom prst="rightArrow">
            <a:avLst>
              <a:gd name="adj1" fmla="val 50000"/>
              <a:gd name="adj2" fmla="val 8439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914400" y="38098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914400" y="47242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9"/>
          <p:cNvSpPr/>
          <p:nvPr/>
        </p:nvSpPr>
        <p:spPr>
          <a:xfrm>
            <a:off x="914400" y="5638680"/>
            <a:ext cx="2057400" cy="609840"/>
          </a:xfrm>
          <a:prstGeom prst="rightArrow">
            <a:avLst>
              <a:gd name="adj1" fmla="val 50000"/>
              <a:gd name="adj2" fmla="val 84342"/>
            </a:avLst>
          </a:prstGeom>
          <a:solidFill>
            <a:srgbClr val="376ea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514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OW FILL IN THE BLANKS ON THE FOLLOWING SLIDES WITH A WORD FROM THE LIST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57200" y="53352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 MUST ______ THE FOOD FOR THE LOVE FEAST</a:t>
            </a: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6" descr="curtain"/>
          <p:cNvPicPr/>
          <p:nvPr/>
        </p:nvPicPr>
        <p:blipFill>
          <a:blip r:embed="rId1"/>
          <a:stretch/>
        </p:blipFill>
        <p:spPr>
          <a:xfrm>
            <a:off x="3733920" y="1219320"/>
            <a:ext cx="2539800" cy="253980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5"/>
          <p:cNvSpPr/>
          <p:nvPr/>
        </p:nvSpPr>
        <p:spPr>
          <a:xfrm>
            <a:off x="1447920" y="4419720"/>
            <a:ext cx="6858000" cy="190476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5"/>
          <p:cNvSpPr/>
          <p:nvPr/>
        </p:nvSpPr>
        <p:spPr>
          <a:xfrm>
            <a:off x="1143000" y="4952880"/>
            <a:ext cx="6858000" cy="190512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457200" y="533520"/>
            <a:ext cx="822960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STUDENT WORKED _________ ON HIS SCIENCE PROJEC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" descr="curtain"/>
          <p:cNvPicPr/>
          <p:nvPr/>
        </p:nvPicPr>
        <p:blipFill>
          <a:blip r:embed="rId1"/>
          <a:stretch/>
        </p:blipFill>
        <p:spPr>
          <a:xfrm>
            <a:off x="2743200" y="228600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ow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0" y="4648320"/>
            <a:ext cx="6858000" cy="190476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457200" y="1143000"/>
            <a:ext cx="8229600" cy="40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EY_______A 3.5 GPA FOR THE HONORS PROGRAM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QUI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3" descr="curtain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kiss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4572000"/>
            <a:ext cx="6858000" cy="190512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"/>
          <p:cNvSpPr/>
          <p:nvPr/>
        </p:nvSpPr>
        <p:spPr>
          <a:xfrm>
            <a:off x="380880" y="990720"/>
            <a:ext cx="82296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T IS _________ TO BRUSH YOUR TEETH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CESSARY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curtain"/>
          <p:cNvPicPr/>
          <p:nvPr/>
        </p:nvPicPr>
        <p:blipFill>
          <a:blip r:embed="rId1"/>
          <a:stretch/>
        </p:blipFill>
        <p:spPr>
          <a:xfrm>
            <a:off x="6248520" y="2514600"/>
            <a:ext cx="253980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hilari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5"/>
          <p:cNvSpPr/>
          <p:nvPr/>
        </p:nvSpPr>
        <p:spPr>
          <a:xfrm>
            <a:off x="228600" y="4572000"/>
            <a:ext cx="6858000" cy="1905120"/>
          </a:xfrm>
          <a:prstGeom prst="rect">
            <a:avLst/>
          </a:prstGeom>
          <a:solidFill>
            <a:srgbClr val="376ea5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T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YA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IR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CESS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EP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533520" y="1447920"/>
            <a:ext cx="82296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 ________ FRIEND IS HONEST IS AT ALL TIM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Y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3" descr="curtain"/>
          <p:cNvPicPr/>
          <p:nvPr/>
        </p:nvPicPr>
        <p:blipFill>
          <a:blip r:embed="rId1"/>
          <a:stretch/>
        </p:blipFill>
        <p:spPr>
          <a:xfrm>
            <a:off x="6324480" y="2895480"/>
            <a:ext cx="25401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toon3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LETS SEE WHAT YOU GOT RIGHT!</a:t>
            </a:r>
            <a:br>
              <a:rPr sz="80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W GO BACK AND UNCOVER THE WORD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**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ts under the curtain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***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2T21:29:26Z</dcterms:created>
  <dc:creator>Piedmont Elementary</dc:creator>
  <dc:description/>
  <dc:language>en-US</dc:language>
  <cp:lastModifiedBy>Kiana Gordon</cp:lastModifiedBy>
  <dcterms:modified xsi:type="dcterms:W3CDTF">2010-05-06T04:09:58Z</dcterms:modified>
  <cp:revision>9</cp:revision>
  <dc:subject/>
  <dc:title>Guess the Covered Word</dc:title>
</cp:coreProperties>
</file>